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18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98400" y="4408200"/>
            <a:ext cx="558684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/Discu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upon security general security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ic categories are arbit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ion will touch on the same areas multiple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pic: Application system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/Discu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upon security general security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du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privi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def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ic categories are arbit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ion will touch on the same areas multiple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pic: Application system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st problems in application develop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to design security into th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to control changes to th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to control the information for th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to control the transaction in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to control the information after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ofing a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vesdropping o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adequate 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ble to identify/track access/up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icit code to e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 of information or hard as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update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destruction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of or inadequate data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overwrites - Failure to lock 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 inter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Duties and Layered Def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icit code to e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 of information or hard as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update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destruction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of or inadequate data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overwrites - Failure to lock 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 inter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access to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Duties and Layered Def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icit code to e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 of information or hard as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update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destruction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of or inadequate data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overwrites - Failure to lock 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 inter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access to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per access to data - controls not granular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 data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permitted to the wrong/too many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672-DAD2-4D57-921C-15214B2F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613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7C4-627D-47DE-A7C8-E9E6A5EE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613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613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CBE-21C1-4E71-980B-CACD75C0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066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066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613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613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613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0AA-381F-404C-99F3-9A6B5387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36D-9906-4147-ACB0-BF084D8C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4A4-E9C1-4D3D-98CF-3540D6D2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0663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126-CA8F-46D1-A80B-EA3C35F5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D26-EF1B-4E04-9B51-2519153C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B74-A2CE-4D02-A539-A4FC648E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0663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613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7DA-5CD0-4937-90F4-3AE5DFA2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613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439-EC56-4975-9DEC-F2CB70A8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613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0C9-A522-4773-9B4A-E24C3865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BK REVIEW -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B12D-02FA-4CF4-8119-C16EA61B9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SSP CBK Applications Systems Develop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se are slides that were part of a CISSP prep course that I partly developed and taught while I was with Ernst and Yo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se slides are dated – August 1999 -  the core information is still relev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me w/ any questions or comment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Rothke, CISSP  brothke@hot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292-990B-4EEF-BD34-686B7117DB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C Object-Oriented Models -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/Negative Authorizations (Dr Eduardo Fernandez) - Explicit positive and negative authoriz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Mechanism (Dr Naftaly Minsky) - Multiple interfaces to objects with a list of laws (rules) governing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B6D-E5B7-4998-A647-D3B3FDFBE6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C Object-Oriented Mode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ION (Dr Bhavani Thuraisingham) - Assigns security/sensitivity levels to subjects, objects and access methods and regulates access via “properties” based on sensitivit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n-Lunt Model - Assigns sensitivity levels to subjects, objects and access methods and regulates access via axioms and three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class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nce of data is class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 for classifying data is class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A (Dr Thomas Keefe) - Secure Object-Oriented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as a standard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s classification levels via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E75-492D-4EFD-BFB4-76565BBEE6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bject-Oriented Iss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instan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ing a more defined version of an object by iteratively replacing variables with other variables or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located in more than one location for use by more than one user, usually having different security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sensitive information to be removed when stored at lower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ring integrity with multiple updates going on is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objects responding to a common command in different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CD5-F3B4-4AA3-A732-B93DCAEF88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gramming/Data Attack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mi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id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bo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f Check/Time of Use (serialization)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A18-2C39-4534-AC89-29892D260E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base 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ssue still mistakes, o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by operating system/platform/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data base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data base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hase update (Intent/Commit and 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detection/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ity with multiple instances (polyinstant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BEF-32D7-4227-A360-75D4C80B16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s Beyond the Data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gest issue still mistakes, o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by operating system/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data base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data base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and controlled access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 of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and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622-7753-45F2-809D-95F6BE89D7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s Beyond the Data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normal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ed” - connected or unconnected but related platforms running independent copies of software with independent copie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5B2-F28E-4F6F-A02B-86A248CE65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s Beyond the Data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ed” - connected or unconnected but related platforms running independent copies of software with independent copie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ersed” - interconnected and related platforms running the same software and using the same data, one of which (data or software) is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modate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s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s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isk of system failure due to hardware mal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79E-9521-4AEB-A3F6-1E30C98DBD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s Beyond the Data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ed” - connected or unconnected but related platforms running independent copies of software with independent copie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ersed” - interconnected and related platforms running the same software and using the same data, one of which (data or software) is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le” or “Cooperative” - interconnected platforms running independent copies of software with independent copie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processing from dissimilar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ly execute/test each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631-68A0-496A-B65A-CF95C5232D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 dependencies between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ohe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s perform discre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, design supporting distribu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/server local link to other areas of system, performs information preparation &amp; exchange for client or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AE5-68CE-481D-9D47-EFBE8C7B22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: Application and Syste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ecurity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712-C088-4B59-9724-5CD80EDAF2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tential Vulnerabilit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on - building new objects from existin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deriving information not 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reuse/garbage collection - reclaiming information from dynamic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24E-F8FA-40EC-B950-2233E3B8CC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tential Vulnerabilit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iciou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jan horse - program with hidden and undesirable fun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us - malicious, usually destructive, code that infects other programs to propagate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bomb - hidden code designed to perform undesirable activities upon receiving or observing a specific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 bomb - email attachment with malicio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m - a program that uses communications methods to propagate itself betwee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et - platform-independent download-and-run mini-program used in Java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938-F58B-49BA-9469-DE382AE558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Defin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“platform-independent” programming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, distributed, interpr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replacement for Java - stripped OLE, designed to run on slow Internet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D28-E52D-49FC-8D83-B85E9D1A6F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tential Vulnerabilit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p door - secret way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door - unapproved method of accessing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t channel - Unapproved communications link between application and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t storage channel - Writing to storage through one process, and reading by another (lower security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t timing channel - Processes signal to one another by modulating system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access to th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FCB-708E-4D96-8ED6-CBF0C68110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ulnerabilities 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ofing/Eavesdr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ble to identify/track access/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ft of information or hard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access to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update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destruction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or inadequate data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verw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rect internal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FF6-0798-4AC8-93B6-131DEBC173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ing databases for trends/anomalies using automated tools without knowledge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-bas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to query a collection of knowledge expressed using a formal knowledge representatio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ficial Neural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processors networked on a uni-directional communications channel that operate on local data and input from the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to learn from example and to general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F38-1402-4CE0-9B55-64303BBF12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Object Linking &amp; Embe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Object Request Broker Architecture (Object Management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programming rules and procedures and pre-programmed mod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1D8-8048-4EA9-832E-498B6CD9DF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ols - Personnel Iss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and Risk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checks of all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 of Du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responsibilities for application development, approval, implementation,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61C-7702-4562-9430-1B2FDB0BED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 System Develop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a Systems Development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Assuranc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 QA/QC, Audit, Information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orce review and approval of all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00D-4050-4F84-B42E-68583E5635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 System Develop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Development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s to new development AND system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297-4FA7-4904-86CE-48B0BCBBEA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neral Security 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 of du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privi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ed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048-AC31-4445-97DC-A8772E91AD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 System Develop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Development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pplies to new development AND system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sec reviews at each milepost of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security requirements have been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review of design an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4E8-F85E-48B2-AC31-0229657658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 System Develop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Development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pplies to new development AND system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Include infosec reviews at each milepost of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Init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information security in initial discussion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Risk Assessmen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sensitivity of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criticality of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security ri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level of protection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sure regulatory/legal/privacy issues ar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requirements can be met by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6DA-2698-4FB7-87E5-904EF15C15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 System Develop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Development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pplies to new development AND system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Include infosec reviews at each milepost of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Project Init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Definition (Design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/system desig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acceptable level of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of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age of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issible var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security requirements and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exposure points i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controls to mitigate expo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requirements can be met by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BBF-CED0-4BED-8C0F-4B494C22B2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 System Develop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Development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pplies to new development AND system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Include infosec reviews at each milepost of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Project I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Project Definition (Design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Design (Design Spec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planning of function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program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security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tes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ematical verification of model and design correspo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EC4-2390-44E8-9764-8735382B55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 System Develop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Development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pplies to new development AND system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Include infosec reviews at each milepost of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Project I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Project Definition (Design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System Design (Design Spec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/Training (Software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personnel should be authorized to work 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of support personnel and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291-2B7D-4145-B594-751F1B3730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 System Develop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Systems Development Lif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Applies to new development AND system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Include infosec reviews at each milepost of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Project Ini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Project Definition (Design Analy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System Design (Design Specif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Programming and Training (Software Develop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, Evaluation an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staff should not conduct evaluation/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ion of security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ion of process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 check, operation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AC7-6A59-4C59-AB64-8B3110F65FE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tion that performance and security requirements have been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red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acceptance of security adequacy, authorization for operation and acceptance of existing risk (Q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testing of security safe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tion that a system is operating according to its secur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 of confidence that the implemented security measures work as int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D65-8B26-4DCB-A8A0-CDEB1A9EBD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 System Develop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Systems Development Lif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Applies to new development AND system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Include infosec reviews at each milepost of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Project Ini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Project Definition (Design Analy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System Design (Design Specif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Programming and Training (Software Develop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Installation, Evaluation and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397-08F5-4BF7-8BC7-35FE5A8F9B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Real Wor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Development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s understaffed, wear too many h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duties seldom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sec seldom involved in initial stage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s seldom adequately ass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 points and controls seldom adequately 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ecks are often skim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s are often perfun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process continues without formal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limits on access to program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control for program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04B-A72F-4D22-B149-5EA6462C0A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perational Iss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issues - Chang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ne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1EE-F0A3-404F-B180-7233ECE79E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Initial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Information in a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onary vs 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authorization granted and den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based on assigned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al vs Object 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923-EEB3-452D-A141-0AD7876D8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ort personnel should be autho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7C8-22BB-444C-83C0-FABB39CC31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support personnel should be autho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de should be reviewed prior to implementation - Change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965-A3E3-4D53-A29E-AFB7DD6A20D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support personnel should be autho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code should be reviewed prior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Duties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staff should not review, impl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4C5-637C-4054-8C36-DE1D766F7D1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support personnel should be autho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code should be reviewed prior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Duties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review, impl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staff should not support produc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096-F5C3-4E33-8A5F-3FFACA48498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support personnel should be autho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code should be reviewed prior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Duties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review, impl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support produc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staff should not manage secur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3C0-94D7-43E3-A6B9-6C2DCA2EF66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support personnel should be autho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code should be reviewed prior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review, impl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support produc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manage secur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ability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data should be managed through pro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access should be permitted directly to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1D2-B781-4033-82AF-EAD001FB14C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support personnel should be autho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code should be reviewed prior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review, impl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support produc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manage secur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ability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No access should be permitted directly to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data should be managed by users, not support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9E0-D371-4C5C-98A7-B0038E46C4F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support personnel should be autho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code should be reviewed prior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review, impl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support produc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manage secur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ability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No access should be permitted directly to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Production data should be managed by users, not support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access to production data should be log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6C7-10D0-4BE9-82E3-C4485CD7A21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support personnel should be autho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code should be reviewed prior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review, impl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support produc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manage secur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No access should be permitted directly to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Production data should be managed by users, not support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access to production data should be log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t Privi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should be given to necessary data field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BEE-A403-4659-8E85-5ADAC93830A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support personnel should be autho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code should be reviewed prior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review, impl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support produc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manage secur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No access should be permitted directly to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Production data should be managed by users, not support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access to production data should be log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ccess should be given to necessary data field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ed Def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s should be used in addition to system 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6FC-0029-4C09-A038-C6AFB6C4ABB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lational Data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” (Table or set of columns in 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“Attributes” (Colum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ing “Permissible valu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Attribute is “Key” with uniqu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ring in “Instances” (R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ple” of a Relation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” Relations (ta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lected “Attribu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ed by Key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6BD-4CDB-44AD-9A91-51A5F98188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support personnel should be autho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code should be reviewed prior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review, impl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support produc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evelopment staff should not manage secur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No access should be permitted directly to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Production data should be managed by users, not support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ll access to production data should be log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ccess should be given to necessary data field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ccess controls should be used in addition to system 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2CF-1751-40E9-94C7-26C641A8CEC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Real Wor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s understaffed, wear too many h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duties seldom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staff often support 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taff often maintain produc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is often granted on basis of “least effor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643-90F1-4426-93CB-0BB14E0204B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Y2K Remedi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2K remediation being done off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rd par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e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check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CCC-1A16-4E43-AE56-9205152D244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Y2K Remedi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2K remediation being done off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retu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by qualified staf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tner estimates at least one $Billion loss due to illicit code in Y2K f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E3A-182E-4C92-A00C-0865BC8B873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Y2K Remedi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2K remediation being done off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retu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rrections being performed by IT remediati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9CF-4BA2-4209-824E-34A09E72A95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 dependencies between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ohe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s perform discre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and customary practice of responsible protection of assets that reflects a community or societal n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Di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dent management and execution of due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3FB-3948-4250-B4D3-07A70776F04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nal Consider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development life cycle and change control implementation co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progra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libra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FC4-E075-4C01-A0D7-F3686FF15CD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lational Database Contr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/Revoke Privileges by Table, Column, Key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ssions by View combining specific Tables, Columns, Key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ly dividing the database into pieces to allow sensitive data to be hidden from unauthorize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s for specific views having specific attributes, and for actions to perform within those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, by specific grant to user or group by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, by classifica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ularity” - fineness of control permissible in database controls - dependent upon database an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831-BF04-4013-93E5-8ACB5FF62B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lational Database Iss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ing access granted - D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ing that View limitations function -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users from creating a copy (becoming “owner”) and granting access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8B8-F2AB-4C17-BA09-ADCC1B331E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bject-Oriented Data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” of accessing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using Encapsulation, Inheritance, Information h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ularity” - fineness of control permissible in database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ECC-66C6-4137-8DAE-28A6464E0D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C Object-Oriented Mode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ON - Explicit authorization for groups of users to objects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Hiding (Dr. Elisa Bertino) - Explicit authorization for (groups of) users to objects using “public metho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f Function Evaluations (Rafiul Ahad) - Explicit authorization for (groups of) users to execute specific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Data Hiding (Joel Richardson) - Explicit authorization to execute specific methods determined by the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B95-EB71-4C42-8225-119EF4FF9F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3:11:32Z</dcterms:created>
  <dc:creator>brothke@hotmail.com</dc:creator>
  <dc:description/>
  <dc:language>en-US</dc:language>
  <cp:lastModifiedBy>BRothke</cp:lastModifiedBy>
  <cp:lastPrinted>1999-08-12T15:08:23Z</cp:lastPrinted>
  <dcterms:modified xsi:type="dcterms:W3CDTF">2003-06-12T14:22:59Z</dcterms:modified>
  <cp:revision>49</cp:revision>
  <dc:subject/>
  <dc:title>CISSP CBK Applications Systems Dev.ppt</dc:title>
</cp:coreProperties>
</file>